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1175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C1E-9803-47C6-9BF6-99BAB14A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164624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5947920"/>
            <a:ext cx="164624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E89-7A7A-4258-92FC-DC34B3F6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594792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9560" y="594792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D47-D8F0-479A-A24E-0D9E033B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80000" y="240048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6320" y="240048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594792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80000" y="594792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6320" y="5947920"/>
            <a:ext cx="53006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62D-D54B-4E92-8530-53FBEF52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400480"/>
            <a:ext cx="16462440" cy="67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4A8-73A7-44E0-B2E9-B20E564D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1646244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0C6-97AC-4FA3-804C-73EA6E1B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FEB-F5DB-4D6B-BB72-A590DAF5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002-07E8-4D4C-BAC5-B232CA32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412920"/>
            <a:ext cx="164624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CAC-FD85-4FE9-9211-4019615B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594792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4D3-717C-4C23-967E-5E44DE9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9560" y="594792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AE5-98E3-46A0-A5F3-EE43C2FF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9560" y="2400480"/>
            <a:ext cx="803340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5947920"/>
            <a:ext cx="16462440" cy="32392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B19-DF63-48A6-BC13-D6F0AA2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412920"/>
            <a:ext cx="16462440" cy="1714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400480"/>
            <a:ext cx="16462440" cy="6791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 fontScale="82000"/>
          </a:bodyPr>
          <a:p>
            <a:pPr marL="562320" indent="-5623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1218240" indent="-468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1874520" indent="-374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2624040" indent="-3747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537480"/>
            <a:ext cx="4268880" cy="547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sr-Latn-R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sr-Latn-R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9600" y="9537480"/>
            <a:ext cx="5791320" cy="547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7960" y="9537480"/>
            <a:ext cx="4268880" cy="547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sr-Latn-R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F20979-E93D-4174-9135-D106BBB60F58}" type="slidenum">
              <a:rPr b="0" lang="sr-Latn-R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504720" y="681120"/>
            <a:ext cx="8302680" cy="1650240"/>
            <a:chOff x="504720" y="681120"/>
            <a:chExt cx="8302680" cy="1650240"/>
          </a:xfrm>
        </p:grpSpPr>
        <p:sp>
          <p:nvSpPr>
            <p:cNvPr id="42" name="TextBox 4"/>
            <p:cNvSpPr/>
            <p:nvPr/>
          </p:nvSpPr>
          <p:spPr>
            <a:xfrm>
              <a:off x="513360" y="1688760"/>
              <a:ext cx="829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itu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5"/>
            <p:cNvSpPr/>
            <p:nvPr/>
          </p:nvSpPr>
          <p:spPr>
            <a:xfrm>
              <a:off x="504720" y="948240"/>
              <a:ext cx="829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1" lang="sr-Latn-RS" sz="4400" spc="-1" strike="noStrike">
                  <a:solidFill>
                    <a:srgbClr val="5e1b0e"/>
                  </a:solidFill>
                  <a:latin typeface="Times New Roman"/>
                  <a:ea typeface="Times New Roman"/>
                </a:rPr>
                <a:t>POSTER TITL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9" descr=""/>
            <p:cNvPicPr/>
            <p:nvPr/>
          </p:nvPicPr>
          <p:blipFill>
            <a:blip r:embed="rId1"/>
            <a:stretch/>
          </p:blipFill>
          <p:spPr>
            <a:xfrm>
              <a:off x="648720" y="681120"/>
              <a:ext cx="8150040" cy="3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Straight Connector 13"/>
          <p:cNvSpPr/>
          <p:nvPr/>
        </p:nvSpPr>
        <p:spPr>
          <a:xfrm>
            <a:off x="9145440" y="824040"/>
            <a:ext cx="0" cy="8713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7"/>
          <p:cNvSpPr/>
          <p:nvPr/>
        </p:nvSpPr>
        <p:spPr>
          <a:xfrm>
            <a:off x="5099040" y="4713120"/>
            <a:ext cx="3745080" cy="4608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picture/table/grap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504720" y="2336760"/>
            <a:ext cx="8353440" cy="2243880"/>
            <a:chOff x="504720" y="2336760"/>
            <a:chExt cx="8353440" cy="2243880"/>
          </a:xfrm>
        </p:grpSpPr>
        <p:sp>
          <p:nvSpPr>
            <p:cNvPr id="48" name="Rectangle 16"/>
            <p:cNvSpPr/>
            <p:nvPr/>
          </p:nvSpPr>
          <p:spPr>
            <a:xfrm>
              <a:off x="504720" y="2336760"/>
              <a:ext cx="8353440" cy="50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1"/>
            <p:cNvSpPr/>
            <p:nvPr/>
          </p:nvSpPr>
          <p:spPr>
            <a:xfrm>
              <a:off x="504720" y="2840760"/>
              <a:ext cx="8339400" cy="1739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25"/>
          <p:cNvGrpSpPr/>
          <p:nvPr/>
        </p:nvGrpSpPr>
        <p:grpSpPr>
          <a:xfrm>
            <a:off x="9505800" y="824040"/>
            <a:ext cx="8280720" cy="3341160"/>
            <a:chOff x="9505800" y="824040"/>
            <a:chExt cx="8280720" cy="3341160"/>
          </a:xfrm>
        </p:grpSpPr>
        <p:sp>
          <p:nvSpPr>
            <p:cNvPr id="51" name="Rectangle 32"/>
            <p:cNvSpPr/>
            <p:nvPr/>
          </p:nvSpPr>
          <p:spPr>
            <a:xfrm>
              <a:off x="9505800" y="824040"/>
              <a:ext cx="8280720" cy="50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19"/>
            <p:cNvSpPr/>
            <p:nvPr/>
          </p:nvSpPr>
          <p:spPr>
            <a:xfrm>
              <a:off x="9505800" y="1328040"/>
              <a:ext cx="8280720" cy="283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26"/>
          <p:cNvGrpSpPr/>
          <p:nvPr/>
        </p:nvGrpSpPr>
        <p:grpSpPr>
          <a:xfrm>
            <a:off x="9505800" y="4324320"/>
            <a:ext cx="8280720" cy="2282040"/>
            <a:chOff x="9505800" y="4324320"/>
            <a:chExt cx="8280720" cy="2282040"/>
          </a:xfrm>
        </p:grpSpPr>
        <p:sp>
          <p:nvSpPr>
            <p:cNvPr id="54" name="Rectangle 34"/>
            <p:cNvSpPr/>
            <p:nvPr/>
          </p:nvSpPr>
          <p:spPr>
            <a:xfrm>
              <a:off x="9505800" y="4324320"/>
              <a:ext cx="8280720" cy="552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Conclusio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Box 20"/>
            <p:cNvSpPr/>
            <p:nvPr/>
          </p:nvSpPr>
          <p:spPr>
            <a:xfrm>
              <a:off x="9505800" y="4866480"/>
              <a:ext cx="8280720" cy="1739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27"/>
          <p:cNvGrpSpPr/>
          <p:nvPr/>
        </p:nvGrpSpPr>
        <p:grpSpPr>
          <a:xfrm>
            <a:off x="9505800" y="6931080"/>
            <a:ext cx="8280720" cy="2276280"/>
            <a:chOff x="9505800" y="6931080"/>
            <a:chExt cx="8280720" cy="2276280"/>
          </a:xfrm>
        </p:grpSpPr>
        <p:sp>
          <p:nvSpPr>
            <p:cNvPr id="57" name="Rectangle 40"/>
            <p:cNvSpPr/>
            <p:nvPr/>
          </p:nvSpPr>
          <p:spPr>
            <a:xfrm>
              <a:off x="9505800" y="6931080"/>
              <a:ext cx="8280720" cy="5364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Refere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22"/>
            <p:cNvSpPr/>
            <p:nvPr/>
          </p:nvSpPr>
          <p:spPr>
            <a:xfrm>
              <a:off x="9505800" y="7467480"/>
              <a:ext cx="8280720" cy="1739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24"/>
          <p:cNvGrpSpPr/>
          <p:nvPr/>
        </p:nvGrpSpPr>
        <p:grpSpPr>
          <a:xfrm>
            <a:off x="504720" y="4713120"/>
            <a:ext cx="4464000" cy="4227840"/>
            <a:chOff x="504720" y="4713120"/>
            <a:chExt cx="4464000" cy="4227840"/>
          </a:xfrm>
        </p:grpSpPr>
        <p:sp>
          <p:nvSpPr>
            <p:cNvPr id="60" name="Rectangle 18"/>
            <p:cNvSpPr/>
            <p:nvPr/>
          </p:nvSpPr>
          <p:spPr>
            <a:xfrm>
              <a:off x="504720" y="4713120"/>
              <a:ext cx="4464000" cy="567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sr-Latn-RS" sz="1800" spc="-1" strike="noStrike">
                  <a:solidFill>
                    <a:srgbClr val="1e1c11"/>
                  </a:solidFill>
                  <a:latin typeface="Times New Roman"/>
                  <a:ea typeface="Times New Roman"/>
                </a:rPr>
                <a:t>Materials and metho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23"/>
            <p:cNvSpPr/>
            <p:nvPr/>
          </p:nvSpPr>
          <p:spPr>
            <a:xfrm>
              <a:off x="504720" y="5280840"/>
              <a:ext cx="4464000" cy="366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Example text]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3T07:13:49Z</dcterms:created>
  <dc:creator>Public Health Institute Niš</dc:creator>
  <dc:description/>
  <dc:language>en-US</dc:language>
  <cp:lastModifiedBy>Coja</cp:lastModifiedBy>
  <dcterms:modified xsi:type="dcterms:W3CDTF">2024-07-18T06:24:28Z</dcterms:modified>
  <cp:revision>16</cp:revision>
  <dc:subject/>
  <dc:title>Poster presentation template for 53DPM</dc:title>
</cp:coreProperties>
</file>